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883-52FB-4FEB-BA20-E07F4DD5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BA9-FE22-4E73-A317-07C80D2E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0F5-0B80-4215-84C4-06071F92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03A-5080-4B0D-AFC4-EEB047A5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BB8-C13B-4532-845A-970A5244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2C6-5835-4DBC-9605-21E573EF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E33-1134-4C34-A541-DA56A59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789-29AE-458C-A4C5-3FD4C45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6DB-95A4-4328-B47B-1BDD8673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FB7-20AB-4269-9AEF-CBD42F8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257-4CC5-4193-8827-5A909AC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ADB-C2F6-4D8E-AEAE-52B6E42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2BD94-95AA-41F3-B36C-56B8525046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4/45/MtRedoubtedit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en/5/52/Emblem_of_the_United_Nations.svg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720" y="253512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14.5</a:t>
            </a:r>
            <a:br>
              <a:rPr sz="5400"/>
            </a:b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The War En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43196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6640" y="685800"/>
            <a:ext cx="69501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6400800" cy="60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, co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Invaded due to location, between Tokyo and U.S. bas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Terrain was difficul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Firebomb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Bombs filled with napalm now being used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More destructive because they also start fir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Use of the firebombs were controversial due to the death of civilia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67 cities in Japan bombed by the end of the war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Okinaw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Troops invaded on April 1st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Troops had to deal with mountains instead of beach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3. Okinawa finally captured on June 22nd, 1945.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Atomic Bomb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Oppenheimer; lead scientis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Developed atomic bomb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After testing the bomb was found to be more powerful than though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. Bomb was tested in New Mexico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252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569960"/>
            <a:ext cx="5257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596880" indent="-59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bomb or not to bomb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me against it, immoral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ome believe it should be use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 the Soviet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built, use i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expensiv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uman approves the use of the bomb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d every weapon should be used to save American live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21440" y="1979280"/>
            <a:ext cx="43495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0" name="" descr="File:MtRedoubtedi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8040" y="1951200"/>
            <a:ext cx="4792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Hiroshima and Nagasaki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Bomb dropped on August 6th, 1945 on Hiroshima; Japan does not surrende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August 9th, 1945: second bomb dropped on Nagasak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Hirohito surrenders to Gen. MacArthur on September 2nd, 1945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05520" y="203832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4640" y="13716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United Nations Forme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rganization composed of countries willing to discuss matters before going to wa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General Assembl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Security Counci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8" name="" descr="File:Emblem of the United Nation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6840" y="2789280"/>
            <a:ext cx="520056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Battle of the Bul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-Last German Offensive, December 194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. Started to keep Allies from Antwerp, Belgium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. Allies caught off guar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. Allies hit Germans hard, Germans were unable to recover from then on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J. Nuremberg Tria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Trial of Nazi leaders in Nuremberg, German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2073240"/>
            <a:ext cx="586728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FDR passes away, April 12</a:t>
            </a:r>
            <a:r>
              <a:rPr b="0" lang="en-US" sz="4400" spc="-1" strike="noStrike" baseline="33000">
                <a:solidFill>
                  <a:srgbClr val="2800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1945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rry Truman becomes Preside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81160" y="1832040"/>
            <a:ext cx="36482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The War ends i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7360" y="182880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And Soviet troops able to breech German lin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Hitler, and his wife, commit suicide on April 30th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V-E Da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Victory in Europ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May 8th, 1945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U.S. continues with their battle in the Pacific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15000" y="1600200"/>
            <a:ext cx="3618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4008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465880" cy="658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26:04Z</dcterms:created>
  <dc:creator>Courtney Huro</dc:creator>
  <dc:description>Presentation Layout Template</dc:description>
  <dc:language>en-US</dc:language>
  <cp:lastModifiedBy>School District U46</cp:lastModifiedBy>
  <dcterms:modified xsi:type="dcterms:W3CDTF">2011-02-10T14:23:20Z</dcterms:modified>
  <cp:revision>4</cp:revision>
  <dc:subject/>
  <dc:title>Blue Border</dc:title>
</cp:coreProperties>
</file>